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C4AD-A31D-4E08-846E-FE9FA0471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DDF8-1E45-4C27-9351-EFBD3CFB2B5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54F0-B3FB-41CF-88CF-6D9A3FD4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2527-ED67-4F73-BF94-3B62FC1A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B02B-BD5B-4012-9C8E-22A9DB613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28BE-CAF5-426F-BCC7-D8918C5FA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DFA7-98E1-4FE1-91A0-A35EA1C0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5C67-3416-4B78-B2DD-1D4396BC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8E64-CDB7-4C5E-859E-04F719F9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88B6-5532-44D9-85B2-D49EC42F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CA89-BF74-4B69-B692-F09AE7CB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1F1B-F5E2-4CF7-BB5A-DB3BDF10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4539-EBCA-4F36-BFF2-382C901F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E7A2-B3FC-4172-9EEC-85385318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1296-178C-4E06-B983-85E6B7B67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228600"/>
            <a:ext cx="8686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dnes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5195880"/>
            <a:ext cx="464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3/10/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66680" y="3048120"/>
            <a:ext cx="7162920" cy="16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SA Day 2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1143000"/>
            <a:ext cx="86104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990099"/>
                </a:solidFill>
                <a:latin typeface="Times New Roman"/>
              </a:rPr>
              <a:t>Key Question 15 What is Static Electricity? EXIT SLI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320" y="76320"/>
            <a:ext cx="5796720" cy="914400"/>
            <a:chOff x="76320" y="76320"/>
            <a:chExt cx="5796720" cy="91440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76320" y="76320"/>
              <a:ext cx="13381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 txBox="1"/>
            <p:nvPr/>
          </p:nvSpPr>
          <p:spPr>
            <a:xfrm>
              <a:off x="1447560" y="187200"/>
              <a:ext cx="4425480" cy="730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100000">
                        <a:srgbClr val="4d0808"/>
                      </a:gs>
                    </a:gsLst>
                    <a:lin ang="5400000"/>
                  </a:gradFill>
                  <a:latin typeface="Broadway"/>
                </a:rPr>
                <a:t>Warm-U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Broadway"/>
                <a:ea typeface="Broadway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6320" y="609480"/>
            <a:ext cx="8991360" cy="48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KEY QUESTION 15: What is static electricity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fine static electri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c electricity i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dentify 2 types of electric charge and describe how they interact with each oth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aw arrows to represent the motion of the balls in the picture given the charges indica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ive examples of times when you may experience static electricity or how it can be usefu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en have you felt or witnessed a static discharg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entify at least 3 instances of static electricity in use during real lif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8440" y="0"/>
            <a:ext cx="89632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Key Question Exit Sli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0" r="70021" b="-9021"/>
          <a:stretch/>
        </p:blipFill>
        <p:spPr>
          <a:xfrm>
            <a:off x="198108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69369" t="0" r="0" b="0"/>
          <a:stretch/>
        </p:blipFill>
        <p:spPr>
          <a:xfrm>
            <a:off x="1066680" y="2666880"/>
            <a:ext cx="505080" cy="419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rcRect l="0" t="0" r="70021" b="-9021"/>
          <a:stretch/>
        </p:blipFill>
        <p:spPr>
          <a:xfrm>
            <a:off x="480060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rcRect l="69369" t="0" r="0" b="0"/>
          <a:stretch/>
        </p:blipFill>
        <p:spPr>
          <a:xfrm>
            <a:off x="7543800" y="2743200"/>
            <a:ext cx="504720" cy="419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rcRect l="0" t="0" r="70021" b="-9021"/>
          <a:stretch/>
        </p:blipFill>
        <p:spPr>
          <a:xfrm>
            <a:off x="396252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rcRect l="69369" t="0" r="0" b="0"/>
          <a:stretch/>
        </p:blipFill>
        <p:spPr>
          <a:xfrm>
            <a:off x="6734160" y="2743200"/>
            <a:ext cx="504720" cy="419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3590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970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6556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166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97680" y="23493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82316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600200"/>
            <a:ext cx="731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m-Up: Key Question 15 – Exit Sl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ity &amp; Circuits – ActivInspire Flipchart (internet activities) TUESDAY &amp; 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! (Step 2 Due Mon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a good night’s sleep and eat breakfa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an “open” circu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 Objective</a:t>
            </a:r>
            <a:br>
              <a:rPr sz="4400"/>
            </a:br>
            <a:fld id="{FF2297E1-9D2D-42FC-9FCD-5ABE1F5FFEE7}" type="datetime2">
              <a:rPr b="1" lang="en-US" sz="24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what is required to make a circuit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role of insulators and conductors in electric circu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how a series and parallel circuits are constru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and describe how electrical energy can be converted into other forms of energy (light, sound, and mo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31251" t="28003" r="32500" b="41003"/>
          <a:stretch/>
        </p:blipFill>
        <p:spPr>
          <a:xfrm>
            <a:off x="1523880" y="2057400"/>
            <a:ext cx="60962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43000" y="76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440" y="121788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Electromagnet Fishing Derby Step 2       DUE MONDA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2712960" cy="1447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1295280"/>
            <a:ext cx="8763120" cy="327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46252" t="43002" r="43751" b="10000"/>
          <a:stretch/>
        </p:blipFill>
        <p:spPr>
          <a:xfrm>
            <a:off x="6019920" y="2133720"/>
            <a:ext cx="2590560" cy="44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TPChart"/>
          <p:cNvGraphicFramePr/>
          <p:nvPr/>
        </p:nvGraphicFramePr>
        <p:xfrm>
          <a:off x="4711680" y="2120760"/>
          <a:ext cx="4432320" cy="473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11680" y="2120760"/>
                    <a:ext cx="4432320" cy="47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ill happen if one bulb is removed from the circuit shown bel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5715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other bulb will go out since the circuit would be “open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other bulb will stay lit since it is on a separate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other bulb will explode from too much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AnswerNow"/>
          <p:cNvGrpSpPr/>
          <p:nvPr/>
        </p:nvGrpSpPr>
        <p:grpSpPr>
          <a:xfrm>
            <a:off x="3416400" y="76320"/>
            <a:ext cx="2222280" cy="444240"/>
            <a:chOff x="3416400" y="76320"/>
            <a:chExt cx="2222280" cy="444240"/>
          </a:xfrm>
        </p:grpSpPr>
        <p:sp>
          <p:nvSpPr>
            <p:cNvPr id="86" name="ANShape" hidden="1"/>
            <p:cNvSpPr/>
            <p:nvPr/>
          </p:nvSpPr>
          <p:spPr>
            <a:xfrm>
              <a:off x="3416400" y="76320"/>
              <a:ext cx="222228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NText" hidden="1"/>
            <p:cNvSpPr/>
            <p:nvPr/>
          </p:nvSpPr>
          <p:spPr>
            <a:xfrm>
              <a:off x="3416400" y="76320"/>
              <a:ext cx="2222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2:32:06Z</dcterms:created>
  <dc:creator>CCPS</dc:creator>
  <dc:description/>
  <dc:language>en-US</dc:language>
  <cp:lastModifiedBy>CCPS</cp:lastModifiedBy>
  <dcterms:modified xsi:type="dcterms:W3CDTF">2010-03-10T12:32:23Z</dcterms:modified>
  <cp:revision>1</cp:revision>
  <dc:subject/>
  <dc:title>Slide 1</dc:title>
</cp:coreProperties>
</file>